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65D-349F-41EA-863E-85BC62E0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055D-880E-4A57-879D-5465E2AB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978-CA86-43FA-8162-2C6A0C19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8E5-FE26-4166-8A5D-84891DD9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C403-D9FC-42F8-B90E-6396BD19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C6B-C1EF-4367-8251-F7225C54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8414-E35B-4B33-8E5C-7526896E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D29-CD9F-4184-88F2-4EB6545F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8EB2-C6F3-4126-A198-DC7351E6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67A2-C483-4A09-8BEC-E342A615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0AC9-8077-48C5-B067-F79707D2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8D67-57CF-48A5-98B1-33B93A2D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EC1F-38A9-47F9-9880-03C6A1E64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1625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205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765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1:24:45Z</dcterms:created>
  <dc:creator> </dc:creator>
  <dc:description/>
  <dc:language>en-US</dc:language>
  <cp:lastModifiedBy> </cp:lastModifiedBy>
  <dcterms:modified xsi:type="dcterms:W3CDTF">2009-03-06T01:24:45Z</dcterms:modified>
  <cp:revision>1</cp:revision>
  <dc:subject/>
  <dc:title>Slide 1</dc:title>
</cp:coreProperties>
</file>